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ghchime.wav" ContentType="audio/x-wav"/>
  <Override PartName="/ppt/media/CHIMES.WAV" ContentType="audio/x-wav"/>
  <Override PartName="/ppt/media/hzipup01.wav" ContentType="audio/x-wav"/>
  <Override PartName="/ppt/media/LASER.WAV" ContentType="audio/x-wav"/>
  <Override PartName="/ppt/media/WHOOSH.WAV" ContentType="audio/x-wav"/>
  <Override PartName="/ppt/media/carbrake.wav" ContentType="audio/x-wav"/>
  <Override PartName="/ppt/media/telephone.wav" ContentType="audio/x-wav"/>
  <Override PartName="/ppt/media/zipdn102.wav" ContentType="audio/x-wav"/>
  <Override PartName="/ppt/media/zapbig0g.wav" ContentType="audio/x-wav"/>
  <Override PartName="/ppt/media/driveby.wav" ContentType="audio/x-wav"/>
  <Override PartName="/ppt/media/children%20yeah.wav" ContentType="audio/x-wav"/>
  <Override PartName="/ppt/media/jetflyby2.wav" ContentType="audio/x-wav"/>
  <Override PartName="/ppt/media/zipup202.wav" ContentType="audio/x-wav"/>
  <Override PartName="/ppt/media/zipby10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DE0-94E8-4264-B5BE-52FDFDD0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4D3-7AC3-4BDC-BFE4-BF77D9E6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1D0-522C-479F-BF18-1C370563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037-BD65-4E6A-8B37-B44CE3C5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713-C852-4EB2-8688-4B48770D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556-93AC-4D15-8D12-618BCC7E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0B7-09A7-4A61-9F28-3A13A21C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249-7769-4BFC-B8DA-FCCC0CB1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596-0778-4DD4-B356-BB48B0C1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1F4-C82D-428F-BFBB-607B757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25E-A5DC-418A-8330-D612A23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F34-809A-4D60-A693-0643C741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86D4-787E-4917-9D56-5781462D5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arbrake.wav"/><Relationship Id="rId10" Type="http://schemas.openxmlformats.org/officeDocument/2006/relationships/audio" Target="../media/telephone.wav"/><Relationship Id="rId11" Type="http://schemas.openxmlformats.org/officeDocument/2006/relationships/audio" Target="../media/zipdn102.wav"/><Relationship Id="rId12" Type="http://schemas.openxmlformats.org/officeDocument/2006/relationships/audio" Target="../media/driveby.wav"/><Relationship Id="rId13" Type="http://schemas.openxmlformats.org/officeDocument/2006/relationships/audio" Target="../media/hzipup01.wav"/><Relationship Id="rId14" Type="http://schemas.openxmlformats.org/officeDocument/2006/relationships/audio" Target="../media/driveby.wav"/><Relationship Id="rId15" Type="http://schemas.openxmlformats.org/officeDocument/2006/relationships/audio" Target="../media/hzipup01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zipup202.wav"/><Relationship Id="rId19" Type="http://schemas.openxmlformats.org/officeDocument/2006/relationships/audio" Target="../media/zipby102.wav"/><Relationship Id="rId20" Type="http://schemas.openxmlformats.org/officeDocument/2006/relationships/audio" Target="../media/zipby102.wav"/><Relationship Id="rId21" Type="http://schemas.openxmlformats.org/officeDocument/2006/relationships/audio" Target="../media/children%20yeah.wav"/><Relationship Id="rId22" Type="http://schemas.openxmlformats.org/officeDocument/2006/relationships/audio" Target="../media/children%20yeah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lephone.wav"/><Relationship Id="rId2" Type="http://schemas.openxmlformats.org/officeDocument/2006/relationships/audio" Target="../media/zipdn10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up202.wav"/><Relationship Id="rId9" Type="http://schemas.openxmlformats.org/officeDocument/2006/relationships/audio" Target="../media/zipby102.wav"/><Relationship Id="rId10" Type="http://schemas.openxmlformats.org/officeDocument/2006/relationships/audio" Target="../media/zipby102.wav"/><Relationship Id="rId11" Type="http://schemas.openxmlformats.org/officeDocument/2006/relationships/audio" Target="../media/zipby102.wav"/><Relationship Id="rId12" Type="http://schemas.openxmlformats.org/officeDocument/2006/relationships/audio" Target="../media/children%20yeah.wav"/><Relationship Id="rId13" Type="http://schemas.openxmlformats.org/officeDocument/2006/relationships/audio" Target="../media/children%20yeah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jetflyby2.wav"/><Relationship Id="rId3" Type="http://schemas.openxmlformats.org/officeDocument/2006/relationships/audio" Target="../media/telephone.wav"/><Relationship Id="rId4" Type="http://schemas.openxmlformats.org/officeDocument/2006/relationships/audio" Target="../media/hzipup01.wav"/><Relationship Id="rId5" Type="http://schemas.openxmlformats.org/officeDocument/2006/relationships/audio" Target="../media/children%20yeah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up202.wav"/><Relationship Id="rId9" Type="http://schemas.openxmlformats.org/officeDocument/2006/relationships/audio" Target="../media/zipby102.wav"/><Relationship Id="rId10" Type="http://schemas.openxmlformats.org/officeDocument/2006/relationships/audio" Target="../media/zipby102.wav"/><Relationship Id="rId11" Type="http://schemas.openxmlformats.org/officeDocument/2006/relationships/audio" Target="../media/zipby102.wav"/><Relationship Id="rId12" Type="http://schemas.openxmlformats.org/officeDocument/2006/relationships/audio" Target="../media/children%20yeah.wav"/><Relationship Id="rId13" Type="http://schemas.openxmlformats.org/officeDocument/2006/relationships/audio" Target="../media/children%20yeah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zapbig0g.wav"/><Relationship Id="rId4" Type="http://schemas.openxmlformats.org/officeDocument/2006/relationships/audio" Target="../media/zipup2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ipup202.wav"/><Relationship Id="rId8" Type="http://schemas.openxmlformats.org/officeDocument/2006/relationships/audio" Target="../media/zipby102.wav"/><Relationship Id="rId9" Type="http://schemas.openxmlformats.org/officeDocument/2006/relationships/audio" Target="../media/zapbig0g.wav"/><Relationship Id="rId10" Type="http://schemas.openxmlformats.org/officeDocument/2006/relationships/audio" Target="../media/zipup202.wav"/><Relationship Id="rId11" Type="http://schemas.openxmlformats.org/officeDocument/2006/relationships/audio" Target="../media/zipby102.wav"/><Relationship Id="rId12" Type="http://schemas.openxmlformats.org/officeDocument/2006/relationships/audio" Target="../media/zapbig0g.wav"/><Relationship Id="rId13" Type="http://schemas.openxmlformats.org/officeDocument/2006/relationships/audio" Target="../media/zipup202.wav"/><Relationship Id="rId14" Type="http://schemas.openxmlformats.org/officeDocument/2006/relationships/audio" Target="../media/zipby102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42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Direct and Inverse Var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0481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4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5. Find the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n each cas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181480"/>
            <a:ext cx="6858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5181480"/>
            <a:ext cx="6098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04920" y="2119320"/>
            <a:ext cx="8534160" cy="914400"/>
            <a:chOff x="304920" y="2119320"/>
            <a:chExt cx="8534160" cy="914400"/>
          </a:xfrm>
        </p:grpSpPr>
        <p:sp>
          <p:nvSpPr>
            <p:cNvPr id="52" name=""/>
            <p:cNvSpPr/>
            <p:nvPr/>
          </p:nvSpPr>
          <p:spPr>
            <a:xfrm>
              <a:off x="304920" y="21193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720" y="21193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80880" y="21193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verse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119320"/>
            <a:ext cx="670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/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0880" y="3886200"/>
                <a:ext cx="541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vary direct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219320" y="4495680"/>
                <a:ext cx="1628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286000" y="5181480"/>
                <a:ext cx="4777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19320" y="5181480"/>
                <a:ext cx="4777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95280" y="5867280"/>
                <a:ext cx="478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76520" y="5486400"/>
                <a:ext cx="976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733920" y="4495680"/>
                <a:ext cx="176364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800600" y="4572000"/>
                <a:ext cx="4302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800600" y="5257800"/>
                <a:ext cx="477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48520" y="4876920"/>
                <a:ext cx="631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858000" y="4343400"/>
                <a:ext cx="15019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04920" y="1204920"/>
            <a:ext cx="8534160" cy="914400"/>
            <a:chOff x="304920" y="1204920"/>
            <a:chExt cx="8534160" cy="914400"/>
          </a:xfrm>
        </p:grpSpPr>
        <p:sp>
          <p:nvSpPr>
            <p:cNvPr id="68" name=""/>
            <p:cNvSpPr/>
            <p:nvPr/>
          </p:nvSpPr>
          <p:spPr>
            <a:xfrm>
              <a:off x="304920" y="12049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720" y="12049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ing Direct and Inverse Var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481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4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5. Find the equation that relates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n each cas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2049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rect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1204920"/>
            <a:ext cx="655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y =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2119320"/>
            <a:ext cx="8534160" cy="914400"/>
            <a:chOff x="304920" y="2119320"/>
            <a:chExt cx="8534160" cy="914400"/>
          </a:xfrm>
        </p:grpSpPr>
        <p:sp>
          <p:nvSpPr>
            <p:cNvPr id="76" name=""/>
            <p:cNvSpPr/>
            <p:nvPr/>
          </p:nvSpPr>
          <p:spPr>
            <a:xfrm>
              <a:off x="304920" y="2119320"/>
              <a:ext cx="8534160" cy="91440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2119320"/>
              <a:ext cx="0" cy="914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80880" y="2119320"/>
            <a:ext cx="175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verse Vari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119320"/>
            <a:ext cx="670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wo quantities that model the equation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/x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i="1" lang="en-US" sz="25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is the constant of variation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04920" y="3886200"/>
                <a:ext cx="5846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vary inversel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95280" y="4419720"/>
                <a:ext cx="1486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438280" y="4800600"/>
                <a:ext cx="908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62120" y="4800600"/>
                <a:ext cx="9079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47920" y="5867280"/>
                <a:ext cx="477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905120" y="6019920"/>
                <a:ext cx="1109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962520" y="4724280"/>
                <a:ext cx="83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724280" y="4724280"/>
                <a:ext cx="47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105520" y="4724280"/>
                <a:ext cx="765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324480" y="5791320"/>
                <a:ext cx="631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58000" y="5256360"/>
                <a:ext cx="139860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867280" y="4724280"/>
                <a:ext cx="11955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V="1">
            <a:off x="2209680" y="5105160"/>
            <a:ext cx="106704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3. Use the model in Example 3 to find the length for a width of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4 inch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09680" y="2209680"/>
                <a:ext cx="18208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3048120"/>
                <a:ext cx="477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002120" y="2558880"/>
                <a:ext cx="2949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le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4. Suppose the length and width of a rectangle vary inversely. When the length is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16 inch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, the width is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8 inch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 Find an inverse variation model that relates the length and width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014480" y="3124080"/>
                <a:ext cx="14382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085840" y="3505320"/>
                <a:ext cx="1003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09680" y="3505320"/>
                <a:ext cx="10015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55600" y="4686480"/>
                <a:ext cx="4780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84360" y="4751280"/>
                <a:ext cx="1065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57600" y="3429000"/>
                <a:ext cx="83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379680"/>
                <a:ext cx="66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29200" y="3340080"/>
                <a:ext cx="765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045040" y="4792680"/>
                <a:ext cx="4032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497560" y="4361040"/>
                <a:ext cx="16588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769000" y="3378240"/>
                <a:ext cx="14349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V="1">
            <a:off x="1905120" y="3809520"/>
            <a:ext cx="106668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%20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riting and Using 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5. Using your answers to Exercise 4, find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length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of the rectangle when the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width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900" spc="-1" strike="noStrike">
                <a:solidFill>
                  <a:srgbClr val="cc3300"/>
                </a:solidFill>
                <a:latin typeface="Times New Roman"/>
              </a:rPr>
              <a:t>2, 4, 16, 20 inch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398600" y="2120760"/>
                <a:ext cx="18208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33600" y="2955960"/>
                <a:ext cx="477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576600" y="2540160"/>
                <a:ext cx="7491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295880" y="2503440"/>
                <a:ext cx="2290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11280" y="2921040"/>
                <a:ext cx="47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543480" y="3379680"/>
                <a:ext cx="749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300560" y="3355920"/>
                <a:ext cx="2290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40000" y="2924280"/>
                <a:ext cx="66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54280" y="4160880"/>
                <a:ext cx="7495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90840" y="4124160"/>
                <a:ext cx="200664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317680" y="2908440"/>
                <a:ext cx="765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29080" y="4884840"/>
                <a:ext cx="7491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226040" y="4849920"/>
                <a:ext cx="2433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1.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Jan Pierce</cp:lastModifiedBy>
  <dcterms:modified xsi:type="dcterms:W3CDTF">2003-02-14T20:09:59Z</dcterms:modified>
  <cp:revision>314</cp:revision>
  <dc:subject/>
  <dc:title>No Slide Title</dc:title>
</cp:coreProperties>
</file>